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C41-6DA7-48E1-B9B4-310D4EBF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0FC-8195-4064-9C9D-39A41EAF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510-7E7C-4A5F-97DE-8CAE0B84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B7-10BF-441A-94B4-DA990B70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965-AA13-48C0-969E-F714C893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638-CDC1-4BC0-87CF-DEA27DAC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045-453B-4E06-9ABE-D92EE1A2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7F3-39FA-4B06-BBC2-CBE57028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104-53A0-4DE6-A71C-A061E48A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A88-18FC-4BD0-82A5-D8A8A22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C00-A16F-4DC2-BB96-B34AB3E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5F3-828A-4871-BBA4-DC9E5F4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EE63-E3DF-4D55-988D-754C85F4B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vetlanatolkova@mail.ru" TargetMode="External"/><Relationship Id="rId2" Type="http://schemas.openxmlformats.org/officeDocument/2006/relationships/hyperlink" Target="mailto:svetlanatolkova@mail.ru" TargetMode="External"/><Relationship Id="rId3" Type="http://schemas.openxmlformats.org/officeDocument/2006/relationships/hyperlink" Target="mailto:svetlanatolkova@mail.ru" TargetMode="External"/><Relationship Id="rId4" Type="http://schemas.openxmlformats.org/officeDocument/2006/relationships/hyperlink" Target="mailto:zhelenok.irina@gmail.com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630252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ект по спортивно -оздоровительному направлению совместно с родителями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Будем вместе!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57720"/>
            <a:ext cx="69292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ГБОУ СОШ № 8 им.С.П. АЛЕКСЕЕВА   г.о. Отра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Корпус №2 (основная, средняя школа)"/>
          <p:cNvPicPr/>
          <p:nvPr/>
        </p:nvPicPr>
        <p:blipFill>
          <a:blip r:embed="rId2"/>
          <a:stretch/>
        </p:blipFill>
        <p:spPr>
          <a:xfrm>
            <a:off x="0" y="207180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123\Downloads\6loISxT736.jpg"/>
          <p:cNvPicPr/>
          <p:nvPr/>
        </p:nvPicPr>
        <p:blipFill>
          <a:blip r:embed="rId3"/>
          <a:stretch/>
        </p:blipFill>
        <p:spPr>
          <a:xfrm>
            <a:off x="6730920" y="65160"/>
            <a:ext cx="2413080" cy="170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отоконкурс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Самая спортивная сем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123\Desktop\фото самая спортивная семья\DSC04066.JPG"/>
          <p:cNvPicPr/>
          <p:nvPr/>
        </p:nvPicPr>
        <p:blipFill>
          <a:blip r:embed="rId1"/>
          <a:stretch/>
        </p:blipFill>
        <p:spPr>
          <a:xfrm rot="317400">
            <a:off x="5347800" y="3190680"/>
            <a:ext cx="3764160" cy="377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123\Desktop\фото самая спортивная семья\P1080199.jpg"/>
          <p:cNvPicPr/>
          <p:nvPr/>
        </p:nvPicPr>
        <p:blipFill>
          <a:blip r:embed="rId2"/>
          <a:stretch/>
        </p:blipFill>
        <p:spPr>
          <a:xfrm rot="21227400">
            <a:off x="81000" y="3860280"/>
            <a:ext cx="3832200" cy="287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123\Desktop\фото самая спортивная семья\фото.jpg"/>
          <p:cNvPicPr/>
          <p:nvPr/>
        </p:nvPicPr>
        <p:blipFill>
          <a:blip r:embed="rId3"/>
          <a:stretch/>
        </p:blipFill>
        <p:spPr>
          <a:xfrm>
            <a:off x="5927760" y="1222200"/>
            <a:ext cx="2978280" cy="198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123\Desktop\фото самая спортивная семья\фото 2.jpg"/>
          <p:cNvPicPr/>
          <p:nvPr/>
        </p:nvPicPr>
        <p:blipFill>
          <a:blip r:embed="rId4"/>
          <a:stretch/>
        </p:blipFill>
        <p:spPr>
          <a:xfrm rot="20947800">
            <a:off x="111240" y="1501560"/>
            <a:ext cx="3168360" cy="2112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C:\Users\123\Downloads\IMG_20191114_120147.jpg"/>
          <p:cNvPicPr/>
          <p:nvPr/>
        </p:nvPicPr>
        <p:blipFill>
          <a:blip r:embed="rId5"/>
          <a:stretch/>
        </p:blipFill>
        <p:spPr>
          <a:xfrm rot="21363000">
            <a:off x="2987280" y="1412640"/>
            <a:ext cx="338472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17280"/>
            <a:ext cx="822960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ведя анализ анкетирования в начале и в конце года,  можно сделать выводы, что  физкультурно-оздоровительная деятельность на основе досугов и развлечений совместно с родителями принесла определенные результаты: родители стали принимать активное участие в спортивной деятельности своих детей, овладели в достаточной степени системой знаний, необходимых для формирования физической культуры у детей по некоторым вопросам физкультурно – оздоровительной работы: закаливание, использование разнообразных форм проведения активного отдыха вместе с детьми, обязательное проведение утренней гимнастики дома вместе с детьми, профилактика нарушения осанки и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лагодаря  мероприятиям по совместной деятельности взрослых  с детьми, дети  без всяких затруднений общаются со сверстниками и взрослыми, больше обращают внимание на советы родителей, а родители в то же время стали больше уделять внимание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19080" y="-6480"/>
            <a:ext cx="4486320" cy="329904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4" descr=""/>
          <p:cNvPicPr/>
          <p:nvPr/>
        </p:nvPicPr>
        <p:blipFill>
          <a:blip r:embed="rId2"/>
          <a:stretch/>
        </p:blipFill>
        <p:spPr>
          <a:xfrm>
            <a:off x="4492800" y="3352680"/>
            <a:ext cx="465768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Диаграмма 5" descr=""/>
          <p:cNvPicPr/>
          <p:nvPr/>
        </p:nvPicPr>
        <p:blipFill>
          <a:blip r:embed="rId3"/>
          <a:stretch/>
        </p:blipFill>
        <p:spPr>
          <a:xfrm>
            <a:off x="4565520" y="-6480"/>
            <a:ext cx="4584960" cy="329904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6" descr=""/>
          <p:cNvPicPr/>
          <p:nvPr/>
        </p:nvPicPr>
        <p:blipFill>
          <a:blip r:embed="rId4"/>
          <a:stretch/>
        </p:blipFill>
        <p:spPr>
          <a:xfrm>
            <a:off x="-6480" y="3352680"/>
            <a:ext cx="4438800" cy="33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03320" y="109440"/>
            <a:ext cx="4620960" cy="3194280"/>
          </a:xfrm>
          <a:prstGeom prst="rect">
            <a:avLst/>
          </a:prstGeom>
          <a:ln w="0">
            <a:noFill/>
          </a:ln>
        </p:spPr>
      </p:pic>
      <p:pic>
        <p:nvPicPr>
          <p:cNvPr id="92" name="Диаграмма 4" descr=""/>
          <p:cNvPicPr/>
          <p:nvPr/>
        </p:nvPicPr>
        <p:blipFill>
          <a:blip r:embed="rId2"/>
          <a:stretch/>
        </p:blipFill>
        <p:spPr>
          <a:xfrm>
            <a:off x="4780080" y="182520"/>
            <a:ext cx="4260600" cy="3060720"/>
          </a:xfrm>
          <a:prstGeom prst="rect">
            <a:avLst/>
          </a:prstGeom>
          <a:ln w="0">
            <a:noFill/>
          </a:ln>
        </p:spPr>
      </p:pic>
      <p:pic>
        <p:nvPicPr>
          <p:cNvPr id="93" name="Диаграмма 5" descr=""/>
          <p:cNvPicPr/>
          <p:nvPr/>
        </p:nvPicPr>
        <p:blipFill>
          <a:blip r:embed="rId3"/>
          <a:stretch/>
        </p:blipFill>
        <p:spPr>
          <a:xfrm>
            <a:off x="103320" y="3352680"/>
            <a:ext cx="4620960" cy="33958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4"/>
          <a:stretch/>
        </p:blipFill>
        <p:spPr>
          <a:xfrm>
            <a:off x="4780080" y="3352680"/>
            <a:ext cx="4192560" cy="33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4407120" cy="311004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4" descr=""/>
          <p:cNvPicPr/>
          <p:nvPr/>
        </p:nvPicPr>
        <p:blipFill>
          <a:blip r:embed="rId2"/>
          <a:stretch/>
        </p:blipFill>
        <p:spPr>
          <a:xfrm>
            <a:off x="4638600" y="182520"/>
            <a:ext cx="4260960" cy="31100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5" descr=""/>
          <p:cNvPicPr/>
          <p:nvPr/>
        </p:nvPicPr>
        <p:blipFill>
          <a:blip r:embed="rId3"/>
          <a:stretch/>
        </p:blipFill>
        <p:spPr>
          <a:xfrm>
            <a:off x="1689120" y="3425760"/>
            <a:ext cx="540684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0440" y="-36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вторы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олкова Светлана Викторовна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vetlanatolkova@mail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92769377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еленок Ири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helenok.irina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92779747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Users\123\Downloads\6loISxT736.jpg"/>
          <p:cNvPicPr/>
          <p:nvPr/>
        </p:nvPicPr>
        <p:blipFill>
          <a:blip r:embed="rId5"/>
          <a:stretch/>
        </p:blipFill>
        <p:spPr>
          <a:xfrm>
            <a:off x="2809800" y="4005360"/>
            <a:ext cx="37227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678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грамма «Будем вместе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37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лучшение активного взаимодействия между семьей и школой в процессе физического воспитания младших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ние способностей самостоятельной физкультурно- спортивной деятельности детей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лучшение взаимоотношений детей и родителей в условиях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богащать детско-родительские взаимоотношения при проведении совместных мероприятий, уделяя при этом особое внимание сохранению и укреплению физического здоровья детей школьного возраста средствами спортивных меропри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вышение компетенции родителей в физическом развитии и воспитании ребёнка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7072200" y="65160"/>
            <a:ext cx="1963800" cy="1388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5729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ормы и методы реализации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28760" y="1706400"/>
            <a:ext cx="3708360" cy="257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оллективны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тельские собр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чер вопросов и отв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тавки и презен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643280" y="1700280"/>
            <a:ext cx="3961080" cy="2581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Индивидуа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    ребенка и родителей на заня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ое 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476360" y="4581360"/>
            <a:ext cx="5321160" cy="20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Наглядно- информацио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укл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то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64200" y="65160"/>
            <a:ext cx="2071800" cy="1465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956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68280"/>
            <a:ext cx="8229600" cy="68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организацион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явление запросов родителей по данному напр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ализ литературных источников,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ализ уровня физического развития и здоровь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кетирование родителей;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явление уровня знаний родителей по физкультурно-оздоровительному напр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тановка цели и формулирование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300720" y="4508640"/>
            <a:ext cx="241164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1125360"/>
            <a:ext cx="8229600" cy="683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подготов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работка календарно-тематического плана работы с детьми и плана работы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бсуждение плана работы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работка совмест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156360" y="4724280"/>
            <a:ext cx="24130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5560" y="83664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81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I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основной – практичес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и детей в рам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непосредственно организованной образовательной деятельности, спортив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взаимодействия детей и родителей по плану реализаци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проведение развлечений, досугов,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родительские собрания, беседы,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формление стенд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40440" y="5292720"/>
            <a:ext cx="22035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840" y="119700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V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итогов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и детей в рам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непосредственно организованной образовательной деятельности, спортив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взаимодействия детей и родителей по плану реализаци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проведение развлечений, досугов,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родительские собрания, беседы,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формление стенд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19920" y="5222880"/>
            <a:ext cx="2241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800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Наши мероприят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Ирина\Downloads\0019-018-Sportivnaja-igra-Zov-dzhunglej.jpg"/>
          <p:cNvPicPr/>
          <p:nvPr/>
        </p:nvPicPr>
        <p:blipFill>
          <a:blip r:embed="rId1"/>
          <a:stretch/>
        </p:blipFill>
        <p:spPr>
          <a:xfrm>
            <a:off x="0" y="668160"/>
            <a:ext cx="2592360" cy="194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raketads6.ru/wp-content/uploads/2013/04/IMG_6584.jpg"/>
          <p:cNvPicPr/>
          <p:nvPr/>
        </p:nvPicPr>
        <p:blipFill>
          <a:blip r:embed="rId2"/>
          <a:stretch/>
        </p:blipFill>
        <p:spPr>
          <a:xfrm>
            <a:off x="2438280" y="546120"/>
            <a:ext cx="3303720" cy="218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F:\IMG_1260.jpg"/>
          <p:cNvPicPr/>
          <p:nvPr/>
        </p:nvPicPr>
        <p:blipFill>
          <a:blip r:embed="rId3"/>
          <a:stretch/>
        </p:blipFill>
        <p:spPr>
          <a:xfrm>
            <a:off x="5724360" y="66816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F:\IMG_20180907_091659.jpg"/>
          <p:cNvPicPr/>
          <p:nvPr/>
        </p:nvPicPr>
        <p:blipFill>
          <a:blip r:embed="rId4"/>
          <a:stretch/>
        </p:blipFill>
        <p:spPr>
          <a:xfrm>
            <a:off x="0" y="2416320"/>
            <a:ext cx="2700360" cy="20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250920" y="4335480"/>
            <a:ext cx="1873080" cy="249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6"/>
          <a:stretch/>
        </p:blipFill>
        <p:spPr>
          <a:xfrm>
            <a:off x="2709720" y="2492280"/>
            <a:ext cx="214956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C:\Users\123\Desktop\фото самая спортивная семья\IMG-b672fe2ff8a5cb8617293489e712f06b-V.jpg"/>
          <p:cNvPicPr/>
          <p:nvPr/>
        </p:nvPicPr>
        <p:blipFill>
          <a:blip r:embed="rId7"/>
          <a:stretch/>
        </p:blipFill>
        <p:spPr>
          <a:xfrm>
            <a:off x="4859280" y="2857680"/>
            <a:ext cx="4116600" cy="3595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C:\Users\123\Desktop\фото самая спортивная семья\IMG-c8d3e50198c5c1c5359c9fe05d61fdb5-V (1).jpg"/>
          <p:cNvPicPr/>
          <p:nvPr/>
        </p:nvPicPr>
        <p:blipFill>
          <a:blip r:embed="rId8"/>
          <a:stretch/>
        </p:blipFill>
        <p:spPr>
          <a:xfrm>
            <a:off x="2544840" y="4915080"/>
            <a:ext cx="2747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оя семья на отды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Ирина\Desktop\P1120007.jpg"/>
          <p:cNvPicPr/>
          <p:nvPr/>
        </p:nvPicPr>
        <p:blipFill>
          <a:blip r:embed="rId1"/>
          <a:stretch/>
        </p:blipFill>
        <p:spPr>
          <a:xfrm rot="346200">
            <a:off x="4711320" y="3676320"/>
            <a:ext cx="3986280" cy="298908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6" descr="C:\Users\Ирина\AppData\Local\Microsoft\Windows\INetCache\Content.Word\kartinki_moya_semya_dlya_detskogo_sada_18_30201108.jpg"/>
          <p:cNvPicPr/>
          <p:nvPr/>
        </p:nvPicPr>
        <p:blipFill>
          <a:blip r:embed="rId2"/>
          <a:stretch/>
        </p:blipFill>
        <p:spPr>
          <a:xfrm rot="20907600">
            <a:off x="244080" y="391968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474493"/>
          <p:cNvPicPr/>
          <p:nvPr/>
        </p:nvPicPr>
        <p:blipFill>
          <a:blip r:embed="rId3"/>
          <a:stretch/>
        </p:blipFill>
        <p:spPr>
          <a:xfrm rot="695400">
            <a:off x="5462280" y="925200"/>
            <a:ext cx="38084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etsad-751629-1492371219"/>
          <p:cNvPicPr/>
          <p:nvPr/>
        </p:nvPicPr>
        <p:blipFill>
          <a:blip r:embed="rId4"/>
          <a:stretch/>
        </p:blipFill>
        <p:spPr>
          <a:xfrm rot="229800">
            <a:off x="100080" y="851040"/>
            <a:ext cx="4182840" cy="31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SC09983"/>
          <p:cNvPicPr/>
          <p:nvPr/>
        </p:nvPicPr>
        <p:blipFill>
          <a:blip r:embed="rId5"/>
          <a:stretch/>
        </p:blipFill>
        <p:spPr>
          <a:xfrm rot="20855400">
            <a:off x="3341520" y="228420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7:31Z</dcterms:created>
  <dc:creator>Татьяна</dc:creator>
  <dc:description/>
  <dc:language>en-US</dc:language>
  <cp:lastModifiedBy>user</cp:lastModifiedBy>
  <dcterms:modified xsi:type="dcterms:W3CDTF">2019-11-22T06:57:18Z</dcterms:modified>
  <cp:revision>33</cp:revision>
  <dc:subject/>
  <dc:title>Организация  физкультурно – оздоровительной работы во внеурочное время</dc:title>
</cp:coreProperties>
</file>